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6044A-9EED-4402-A04A-22BCAE5E45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33C97-4623-47EB-9E18-7E9F390446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46C32-37E5-44E8-8205-2FF8E0EBB8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DB83D-B239-4F07-B08B-D46119FCE3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711F5-9B5A-430A-8A0F-BA5D7A94D9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02369-FD42-42C7-ADA0-F7979FE552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99B33-07DC-4AB7-82A2-189CB9345B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86094-887B-4724-9CBA-2C57ADE987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8BCAE-FCEF-4F2D-BD17-3EB7D6FD35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995D9-154F-4477-8214-6BC062F571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Rubor, calor, dolor, tumor, functio la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60A9A-AD06-4300-97AB-ECEF124D6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1D504-9B6F-4736-89B3-6DF18699AF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D4741-F13A-405E-93FD-795395CFE3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6EB27-0EFA-4C0E-B13C-2D9365C3B5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C2BA8-8280-4C59-9780-843A7E3C14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01C8B-373D-4A6A-845F-995D32F8C1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51B47-3A5D-486E-8EE2-6DC12D2EF9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1C3ED-84F5-4A98-8377-B94672082D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97F14-EA0F-4A39-8B4F-10BC7EE524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FB484-CDA3-41C9-B1AD-446ED825C3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CA262-8E05-4A73-873D-0DC16B723A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4C02E-9ED5-482A-B745-2F537602D0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E1C88-439C-4EDD-ABD7-D7A48D754F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16540-696B-4849-B696-21FE776036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0EB76-0269-4A80-9272-4C4E9F0A2A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CDC3F-01B4-4CD1-B8F5-A83D0E7061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51EC7-22AD-4F7E-B5C1-EA408BB373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C4F56-F84A-4992-8369-3858082BDB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6E61A-F0E2-4FCE-8A65-932942A53C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97D0D-BBF0-4CCA-A940-C56DE47C64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76DAA-6037-4146-9AC9-B077F70D1F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5DF37-9D81-44CA-B3A5-01408F5B4E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7FDE4-FCBA-4BEB-8D8C-1D14F04B44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3699D-F4CB-406D-B1E2-33A192932F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A2CA0-8BF7-4AC1-B0C7-FAF1979963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EE6AC-7B7D-4377-93A1-D559D9BEC5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9F98F-1865-4376-B2EA-868309387B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E018F-8E24-474C-9F00-7D241CE344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3BE0A-5A6E-4C9A-B586-CC2F8263D6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F7922-D761-4D47-97FF-DEC162D67F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58037-150A-4A22-993B-34633E5CA0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AFC95-D6D2-4FAA-95EB-17A8BD6F55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39B03-21B1-498F-AF9F-7287092483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27149-90FF-43B2-B34E-66BDCBDB89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DAC7F-7020-4B49-B87B-15ED75AB96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4D730-D410-4AB7-BB7F-9B32712FEA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44B81-FD4B-48A9-A661-C65EB2F516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46B0F-BEA3-4A13-8FF1-9636D1D804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ACD45-F999-4D1F-991F-BCEE29DE9B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18DB7-E066-4D12-8496-B48574820D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DA3BB-D683-437E-BF40-035EC088BB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1FF5E-D7F7-4E5E-A2E2-2179110591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37074-E405-40C5-B297-190A266EF2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8FE71-A4DA-430A-9868-4EFA944BCD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4DA50-16F0-453F-8E3C-78AAD013F2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3F4E2-73B7-447A-8A58-D9766251EC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B31A9-B71D-4956-8B2B-3645A98A32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5061C-5BE2-4CBC-A903-1E4B8D76F6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785F1-90B0-465D-BB70-071ECB040C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9D8D5-E748-4711-A552-9A094F16BA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31113-8500-4185-BE5E-170E106CB1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899BB-0EF6-44DA-B579-CDF7959491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72067-4A73-43EF-816F-BCEC97A277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6D01B-EC2E-4D1E-856A-72DCCBDB07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12CDE-6F3B-42C5-8FD9-DE4F5B2304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C3162-4A39-4019-8E83-6B709CBEFF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A9C6C-5394-442F-AB57-252B185EBA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5AB06-D0CD-43C4-AE14-9C6E8F0D8B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E0A98-5448-48A6-B419-29C3E22102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39252-1FA7-423C-9653-D9E971D734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9DF29-F34D-4BB2-8AF7-1676831636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FCFDA-7256-4A94-9367-05F35D65DF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4C558-03C4-4FE9-91F5-BFC5BEA20A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636DB-11CB-4768-B44F-FFA449C35C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C5400-C6C2-4CBB-B8AB-DD17F04D3B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A0DD7-39CF-416A-9F77-2FEDC242CF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B3A09-C3FA-40E6-BA45-5219E836AD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B7D1-EE43-45EC-8314-49B68D55B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7354-DC5D-481B-8946-66C413B1D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196E-97D8-487E-8AFE-49A198E1A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470E-B132-406B-89BD-FD35AA325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BC61-E9AE-4632-BDC6-8E8BC15C3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F7189-621F-44D5-835E-CCABDDEE5F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76F89-20B2-4249-9815-0AEE22191A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022B-3EFE-413D-8274-B76E616E7A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A2ED-A79B-4A9F-BBFE-62441BBA2C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37D6-0EC7-41F4-9A37-69DC987990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0E5E-80A0-41D3-A094-B64401CC79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AAB5-E058-4C69-BDF4-CE4AAE45D3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79A7-CF1A-4A2C-B436-35A438C366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549A-B57D-4755-86E5-C50A96FB65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5207C-D2DC-400F-8DAD-5258AC13B9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5E17-DB25-49A0-908A-48A8EDF339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AC90C-84C3-4ECF-A89D-4FB9E30742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4C2E6-5AC8-468B-A056-526AA5E99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286C-A217-42D2-AF97-DC50EB480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61EE-8462-4E0E-9930-EE65D85BF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A3E7-C97C-441A-A7F2-025516394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4ADE-46CD-4F0C-A886-1325304EC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87E8-6D69-4955-A3C1-6F69C9A9A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435B-101A-4476-BD7F-6EBCD49A2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71CEC-AD6A-4CC5-BA67-F8D7665294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s-E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301DC-47CE-47EF-BE0C-B643555399AC}" type="slidenum">
              <a:rPr b="0" i="1" lang="es-E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"/>
          <p:cNvSpPr/>
          <p:nvPr/>
        </p:nvSpPr>
        <p:spPr>
          <a:xfrm>
            <a:off x="611280" y="3284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Rehabilitation of  patients with rheumatic disease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331AE-2A82-47CC-B503-F26ED25C7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heumatoid arthriti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24000" y="1341360"/>
            <a:ext cx="864072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3720" algn="just">
              <a:lnSpc>
                <a:spcPct val="80000"/>
              </a:lnSpc>
              <a:spcBef>
                <a:spcPts val="55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the clinical and radiographic picture, there are four stages of RA 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eriarticula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welling of the soft tissu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round MCP and PIP joints) and juxta-articula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оsteopor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narrowing of the joint space, development of subcortical cysts and edge erosions 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su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incipien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uscle atroph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possible occurrence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subcutaneous nodul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enosynovitis, without joint deformation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rosive changes are more prominent (destruction of the joint head)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joint sublux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most often MCP and MTP), muscle atrophy, subcutaneous nodules and tenosynovitis,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joint de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nkyl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the changes already described in the stage III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0331D-15E2-4838-9FF6-B21944E3A3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5545080" cy="2446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"/>
          <p:cNvSpPr/>
          <p:nvPr/>
        </p:nvSpPr>
        <p:spPr>
          <a:xfrm>
            <a:off x="3995640" y="189000"/>
            <a:ext cx="4978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rning stiffness (&gt; 30min),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Pai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Swelling of the symmetrical joi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MCP, MTP, PIP, wrist and other joint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but the spine never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433AB-D44C-4668-98CF-1A395EB467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rcRect l="0" t="0" r="12492" b="3000"/>
          <a:stretch/>
        </p:blipFill>
        <p:spPr>
          <a:xfrm>
            <a:off x="539640" y="549360"/>
            <a:ext cx="3333960" cy="2955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5780160" y="2077920"/>
            <a:ext cx="3240000" cy="30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611280" y="1000080"/>
            <a:ext cx="822960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o suspect RA?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elling of three or more join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elling of MTP or MCP join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itive squeeze te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ning stiffness &gt; 30 mi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AFE71-769D-4A76-8C35-CA06884758B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heumatoid arthritis 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Laboratory testing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nalyses which indicate the presence of inflammatory proc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P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nalyses which indicate the influence of immunological and other complaints during development of 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F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ti C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+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2A301-EF13-4A14-A30D-3615A8497C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44360" y="189000"/>
            <a:ext cx="89996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R/EULAR classification criteria for RA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0</a:t>
            </a:r>
            <a:br>
              <a:rPr sz="3200"/>
            </a:b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 score </a:t>
            </a:r>
            <a:r>
              <a:rPr b="1" lang="sr-Latn-CS" sz="2200" spc="-1" strike="noStrike">
                <a:solidFill>
                  <a:srgbClr val="ff0000"/>
                </a:solidFill>
                <a:latin typeface="Calibri"/>
                <a:ea typeface="Arial"/>
              </a:rPr>
              <a:t>≥ 6</a:t>
            </a:r>
            <a:r>
              <a:rPr b="1" lang="sr-Latn-CS" sz="2200" spc="-1" strike="noStrike">
                <a:solidFill>
                  <a:srgbClr val="ff0000"/>
                </a:solidFill>
                <a:latin typeface="Calibri"/>
              </a:rPr>
              <a:t> points is required for classification as definite RA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2"/>
          <p:cNvGrpSpPr/>
          <p:nvPr/>
        </p:nvGrpSpPr>
        <p:grpSpPr>
          <a:xfrm>
            <a:off x="457200" y="1484280"/>
            <a:ext cx="8055000" cy="1719360"/>
            <a:chOff x="457200" y="1484280"/>
            <a:chExt cx="8055000" cy="1719360"/>
          </a:xfrm>
        </p:grpSpPr>
        <p:sp>
          <p:nvSpPr>
            <p:cNvPr id="174" name="Rectangle 3"/>
            <p:cNvSpPr/>
            <p:nvPr/>
          </p:nvSpPr>
          <p:spPr>
            <a:xfrm>
              <a:off x="457200" y="1484280"/>
              <a:ext cx="3093480" cy="1710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) Joint involvement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4"/>
            <p:cNvSpPr/>
            <p:nvPr/>
          </p:nvSpPr>
          <p:spPr>
            <a:xfrm>
              <a:off x="3563280" y="1484280"/>
              <a:ext cx="35600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 medium-sized joint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7131240" y="1484280"/>
              <a:ext cx="13712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3563280" y="1828440"/>
              <a:ext cx="35600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-10  medium-sized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7131240" y="1828440"/>
              <a:ext cx="13712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8"/>
            <p:cNvSpPr/>
            <p:nvPr/>
          </p:nvSpPr>
          <p:spPr>
            <a:xfrm>
              <a:off x="3563280" y="2172600"/>
              <a:ext cx="3560040" cy="3344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-3 small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7131240" y="2172600"/>
              <a:ext cx="1371240" cy="3344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10"/>
            <p:cNvSpPr/>
            <p:nvPr/>
          </p:nvSpPr>
          <p:spPr>
            <a:xfrm>
              <a:off x="3563280" y="2512080"/>
              <a:ext cx="3560040" cy="33588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4-10 large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1"/>
            <p:cNvSpPr/>
            <p:nvPr/>
          </p:nvSpPr>
          <p:spPr>
            <a:xfrm>
              <a:off x="7131240" y="2512080"/>
              <a:ext cx="1371240" cy="33588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3563280" y="2857680"/>
              <a:ext cx="35600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&gt;10 small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13"/>
            <p:cNvSpPr/>
            <p:nvPr/>
          </p:nvSpPr>
          <p:spPr>
            <a:xfrm>
              <a:off x="7131240" y="2857680"/>
              <a:ext cx="13712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4"/>
            <p:cNvSpPr/>
            <p:nvPr/>
          </p:nvSpPr>
          <p:spPr>
            <a:xfrm>
              <a:off x="356328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>
              <a:off x="713124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>
              <a:off x="3563280" y="182844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3563280" y="217260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>
              <a:off x="3563280" y="251208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>
              <a:off x="3563280" y="285768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20"/>
            <p:cNvSpPr/>
            <p:nvPr/>
          </p:nvSpPr>
          <p:spPr>
            <a:xfrm>
              <a:off x="45720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851220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457200" y="148428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457200" y="320364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Group 24"/>
          <p:cNvGrpSpPr/>
          <p:nvPr/>
        </p:nvGrpSpPr>
        <p:grpSpPr>
          <a:xfrm>
            <a:off x="457200" y="3247920"/>
            <a:ext cx="8066160" cy="630360"/>
            <a:chOff x="457200" y="3247920"/>
            <a:chExt cx="8066160" cy="630360"/>
          </a:xfrm>
        </p:grpSpPr>
        <p:sp>
          <p:nvSpPr>
            <p:cNvPr id="196" name="Rectangle 25"/>
            <p:cNvSpPr/>
            <p:nvPr/>
          </p:nvSpPr>
          <p:spPr>
            <a:xfrm>
              <a:off x="457200" y="3247920"/>
              <a:ext cx="3093480" cy="621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2) Duration of synovitis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26"/>
            <p:cNvSpPr/>
            <p:nvPr/>
          </p:nvSpPr>
          <p:spPr>
            <a:xfrm>
              <a:off x="3563280" y="3247920"/>
              <a:ext cx="3571200" cy="342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&lt;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6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week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27"/>
            <p:cNvSpPr/>
            <p:nvPr/>
          </p:nvSpPr>
          <p:spPr>
            <a:xfrm>
              <a:off x="7142400" y="3247920"/>
              <a:ext cx="1371240" cy="342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28"/>
            <p:cNvSpPr/>
            <p:nvPr/>
          </p:nvSpPr>
          <p:spPr>
            <a:xfrm>
              <a:off x="3563280" y="3599280"/>
              <a:ext cx="3571200" cy="2646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≥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week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29"/>
            <p:cNvSpPr/>
            <p:nvPr/>
          </p:nvSpPr>
          <p:spPr>
            <a:xfrm>
              <a:off x="7142400" y="3599280"/>
              <a:ext cx="1371240" cy="2646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30"/>
            <p:cNvSpPr/>
            <p:nvPr/>
          </p:nvSpPr>
          <p:spPr>
            <a:xfrm>
              <a:off x="356328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>
              <a:off x="714240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32"/>
            <p:cNvSpPr/>
            <p:nvPr/>
          </p:nvSpPr>
          <p:spPr>
            <a:xfrm>
              <a:off x="3563280" y="359928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33"/>
            <p:cNvSpPr/>
            <p:nvPr/>
          </p:nvSpPr>
          <p:spPr>
            <a:xfrm>
              <a:off x="45720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34"/>
            <p:cNvSpPr/>
            <p:nvPr/>
          </p:nvSpPr>
          <p:spPr>
            <a:xfrm>
              <a:off x="852336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35"/>
            <p:cNvSpPr/>
            <p:nvPr/>
          </p:nvSpPr>
          <p:spPr>
            <a:xfrm>
              <a:off x="457200" y="3247920"/>
              <a:ext cx="8056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36"/>
            <p:cNvSpPr/>
            <p:nvPr/>
          </p:nvSpPr>
          <p:spPr>
            <a:xfrm>
              <a:off x="457200" y="3878280"/>
              <a:ext cx="8056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Group 37"/>
          <p:cNvGrpSpPr/>
          <p:nvPr/>
        </p:nvGrpSpPr>
        <p:grpSpPr>
          <a:xfrm>
            <a:off x="468360" y="3906720"/>
            <a:ext cx="8055000" cy="665280"/>
            <a:chOff x="468360" y="3906720"/>
            <a:chExt cx="8055000" cy="665280"/>
          </a:xfrm>
        </p:grpSpPr>
        <p:sp>
          <p:nvSpPr>
            <p:cNvPr id="209" name="Rectangle 38"/>
            <p:cNvSpPr/>
            <p:nvPr/>
          </p:nvSpPr>
          <p:spPr>
            <a:xfrm>
              <a:off x="468360" y="3906720"/>
              <a:ext cx="3080520" cy="65592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3) Acute phase response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39"/>
            <p:cNvSpPr/>
            <p:nvPr/>
          </p:nvSpPr>
          <p:spPr>
            <a:xfrm>
              <a:off x="3563280" y="3906720"/>
              <a:ext cx="3585240" cy="32472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ormal levels of both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RP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nd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 SE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40"/>
            <p:cNvSpPr/>
            <p:nvPr/>
          </p:nvSpPr>
          <p:spPr>
            <a:xfrm>
              <a:off x="7155000" y="3906720"/>
              <a:ext cx="1358640" cy="32472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41"/>
            <p:cNvSpPr/>
            <p:nvPr/>
          </p:nvSpPr>
          <p:spPr>
            <a:xfrm>
              <a:off x="3563280" y="4239360"/>
              <a:ext cx="3585240" cy="320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bnormal levels of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RP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or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 SE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42"/>
            <p:cNvSpPr/>
            <p:nvPr/>
          </p:nvSpPr>
          <p:spPr>
            <a:xfrm>
              <a:off x="7155000" y="4239360"/>
              <a:ext cx="1358640" cy="320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43"/>
            <p:cNvSpPr/>
            <p:nvPr/>
          </p:nvSpPr>
          <p:spPr>
            <a:xfrm>
              <a:off x="356328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44"/>
            <p:cNvSpPr/>
            <p:nvPr/>
          </p:nvSpPr>
          <p:spPr>
            <a:xfrm>
              <a:off x="715500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45"/>
            <p:cNvSpPr/>
            <p:nvPr/>
          </p:nvSpPr>
          <p:spPr>
            <a:xfrm>
              <a:off x="3563280" y="423936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46"/>
            <p:cNvSpPr/>
            <p:nvPr/>
          </p:nvSpPr>
          <p:spPr>
            <a:xfrm>
              <a:off x="46836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47"/>
            <p:cNvSpPr/>
            <p:nvPr/>
          </p:nvSpPr>
          <p:spPr>
            <a:xfrm>
              <a:off x="852336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48"/>
            <p:cNvSpPr/>
            <p:nvPr/>
          </p:nvSpPr>
          <p:spPr>
            <a:xfrm>
              <a:off x="468360" y="390672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49"/>
            <p:cNvSpPr/>
            <p:nvPr/>
          </p:nvSpPr>
          <p:spPr>
            <a:xfrm>
              <a:off x="468360" y="457200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Rectangle 50"/>
          <p:cNvSpPr/>
          <p:nvPr/>
        </p:nvSpPr>
        <p:spPr>
          <a:xfrm>
            <a:off x="0" y="6248520"/>
            <a:ext cx="2362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76480">
              <a:lnSpc>
                <a:spcPct val="100000"/>
              </a:lnSpc>
              <a:tabLst>
                <a:tab algn="l" pos="0"/>
                <a:tab algn="l" pos="28584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601200"/>
                <a:tab algn="l" pos="10058400"/>
                <a:tab algn="l" pos="105156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-276480">
              <a:lnSpc>
                <a:spcPct val="100000"/>
              </a:lnSpc>
              <a:tabLst>
                <a:tab algn="l" pos="0"/>
                <a:tab algn="l" pos="28584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601200"/>
                <a:tab algn="l" pos="10058400"/>
                <a:tab algn="l" pos="105156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1"/>
          <p:cNvSpPr/>
          <p:nvPr/>
        </p:nvSpPr>
        <p:spPr>
          <a:xfrm>
            <a:off x="5295600" y="6620040"/>
            <a:ext cx="4430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76480">
              <a:lnSpc>
                <a:spcPct val="100000"/>
              </a:lnSpc>
              <a:tabLst>
                <a:tab algn="l" pos="0"/>
                <a:tab algn="l" pos="28584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letaha D. et al. Ann Rheum Dis 2010 69: 1580-1588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52"/>
          <p:cNvGrpSpPr/>
          <p:nvPr/>
        </p:nvGrpSpPr>
        <p:grpSpPr>
          <a:xfrm>
            <a:off x="468360" y="4641840"/>
            <a:ext cx="8055000" cy="1984320"/>
            <a:chOff x="468360" y="4641840"/>
            <a:chExt cx="8055000" cy="1984320"/>
          </a:xfrm>
        </p:grpSpPr>
        <p:sp>
          <p:nvSpPr>
            <p:cNvPr id="224" name="Rectangle 53"/>
            <p:cNvSpPr/>
            <p:nvPr/>
          </p:nvSpPr>
          <p:spPr>
            <a:xfrm>
              <a:off x="468360" y="4641840"/>
              <a:ext cx="3080520" cy="19746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) Serology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54"/>
            <p:cNvSpPr/>
            <p:nvPr/>
          </p:nvSpPr>
          <p:spPr>
            <a:xfrm>
              <a:off x="3563280" y="4641840"/>
              <a:ext cx="3571200" cy="3236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egative RF or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 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55"/>
            <p:cNvSpPr/>
            <p:nvPr/>
          </p:nvSpPr>
          <p:spPr>
            <a:xfrm>
              <a:off x="7142400" y="4641840"/>
              <a:ext cx="1371240" cy="3236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56"/>
            <p:cNvSpPr/>
            <p:nvPr/>
          </p:nvSpPr>
          <p:spPr>
            <a:xfrm>
              <a:off x="3563280" y="4974840"/>
              <a:ext cx="357120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F and/or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 positive at low titer: maximum 3 times above the upper reference value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57"/>
            <p:cNvSpPr/>
            <p:nvPr/>
          </p:nvSpPr>
          <p:spPr>
            <a:xfrm>
              <a:off x="7142400" y="4974840"/>
              <a:ext cx="137124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58"/>
            <p:cNvSpPr/>
            <p:nvPr/>
          </p:nvSpPr>
          <p:spPr>
            <a:xfrm>
              <a:off x="3563280" y="5796360"/>
              <a:ext cx="357120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F and/or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 positive at high titer: 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&gt;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 times above the upper reference value    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59"/>
            <p:cNvSpPr/>
            <p:nvPr/>
          </p:nvSpPr>
          <p:spPr>
            <a:xfrm>
              <a:off x="7142400" y="5796360"/>
              <a:ext cx="137124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0"/>
            <p:cNvSpPr/>
            <p:nvPr/>
          </p:nvSpPr>
          <p:spPr>
            <a:xfrm>
              <a:off x="356328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61"/>
            <p:cNvSpPr/>
            <p:nvPr/>
          </p:nvSpPr>
          <p:spPr>
            <a:xfrm>
              <a:off x="714240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2"/>
            <p:cNvSpPr/>
            <p:nvPr/>
          </p:nvSpPr>
          <p:spPr>
            <a:xfrm>
              <a:off x="3563280" y="497484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3"/>
            <p:cNvSpPr/>
            <p:nvPr/>
          </p:nvSpPr>
          <p:spPr>
            <a:xfrm>
              <a:off x="3563280" y="579636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4"/>
            <p:cNvSpPr/>
            <p:nvPr/>
          </p:nvSpPr>
          <p:spPr>
            <a:xfrm>
              <a:off x="46836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65"/>
            <p:cNvSpPr/>
            <p:nvPr/>
          </p:nvSpPr>
          <p:spPr>
            <a:xfrm>
              <a:off x="852336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66"/>
            <p:cNvSpPr/>
            <p:nvPr/>
          </p:nvSpPr>
          <p:spPr>
            <a:xfrm>
              <a:off x="468360" y="464184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67"/>
            <p:cNvSpPr/>
            <p:nvPr/>
          </p:nvSpPr>
          <p:spPr>
            <a:xfrm>
              <a:off x="468360" y="662616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Text Box 6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0C4A5-B208-499F-BFC0-5FB84F3567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Medical rehabilitation of RA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2400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The AIM of treatment is th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maintenance of functional capacity of the locomotive apparatu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 joints and muscles, for enabling the patient as much as possible for performance of basic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activities of daily living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professional acti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3DFA0-91D9-4D32-BFF6-2112632987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457200" y="67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Medical rehabilitation of RA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755640" y="2314440"/>
            <a:ext cx="763272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4720" indent="-504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Medicamentous therapy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SAIDs, glycocorticoids, disease-modifying medicines, biological therapy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nformation and educati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7BCDF-EC85-4A89-80C5-B4262159B5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68360" y="404640"/>
            <a:ext cx="8229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hysical therapy of RA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in the acute 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539640" y="1197000"/>
            <a:ext cx="8147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Calibri"/>
              </a:rPr>
              <a:t>Аcute phase –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phase of active synovit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Joint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unload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evention of joi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ormiti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y positioning of an extremity,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y use of plastic orthoses or plaster splints, which are removed during day for performing kinesi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Cryotherap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– reduction of inflammation and pain, 5-10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at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(isometric) contraction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5. General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inactivity and resting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BD159-AA4C-4465-8163-040DE1B10C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422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rthos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ABAFF-B685-4A24-948F-CA0C2A331C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736720" cy="2378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3708360" y="1844640"/>
            <a:ext cx="2158920" cy="3051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6176880" y="1557360"/>
            <a:ext cx="2067120" cy="38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468360" y="404640"/>
            <a:ext cx="8229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Kinesitherapy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in the acute 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539640" y="1197000"/>
            <a:ext cx="8147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ims of kinesitherap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muscle atroph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revention of joint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contrac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revention of development of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оsteoporosi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and bone destruction due to inacti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F6AF3-75D6-462C-87ED-CBBAE20906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395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heumatic diseas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457200" y="1619280"/>
            <a:ext cx="822960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Rheumatic diseases are etyologically, pathogenetically, clinically and therapeutically a heterogenous group of diseases. 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he main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symptom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pai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in the structures of the locomotive apparatu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he main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sig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disrupted function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of the affected part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Some diseases involve other organs and system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AEDE0-C66E-4415-A6A0-BB8A86EFDD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Kinesitherapy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in the acute 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250920" y="1125360"/>
            <a:ext cx="662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Static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isometric) contractions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On weak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еxtensors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</a:rPr>
              <a:t>for maintenance of muscle mass and strength and prevention of flexor contracture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Can be performed: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In all positions, and also 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while wearing splints.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6804000" y="2205000"/>
            <a:ext cx="2152800" cy="2124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20C2E-0C27-452B-9CBA-69A3961065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Physical therapy of RA 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in chronic phase  (remission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468360" y="1341360"/>
            <a:ext cx="82296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motherapeut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procedure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WD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frared radia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raffin wax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therap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G; EF with Novocain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ortico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DDC; IFC; TENS; ES 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ulse Magnetic Field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tiedematou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alget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edati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asero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alges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ti-inflammator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Hydro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arm local bath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Active exercise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for maintenance and improvement of the 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range of motio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 the damaged joints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Active resisted exercises with proper dosag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for maintenance and improvement of the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muscle strength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f joint stabilizers. 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A598E-F65B-4962-8320-6B7BA6524B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75564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kylosing spondylitis</a:t>
            </a:r>
            <a:br>
              <a:rPr sz="4400"/>
            </a:b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163A8-D003-40D1-9850-82DB255A18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395280" y="333360"/>
            <a:ext cx="826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kylosing spondyliti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Morbus Bechterew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468360" y="1484280"/>
            <a:ext cx="8280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xial spondyloarthritis (by ASAS definition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hronic inflammatory rheumatic disease characterized by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ynovitis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I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 synovial joints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pinal column 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(intervertebral, costovertebral, costotransversal) and more seldom CF, GH and peripheral joints;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flammatory lesions of muscular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sertion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(еnthesitis) of the spinal column, ligaments and tendons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elvi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(attachment of annulus fibrosus, anterior and posterior longitudina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lig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 yellow ligaments),peripheral joints and synchondrosis;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flammatory or fibrous lesions of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ther organ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 algn="just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flammatory lesions of the locomotive apparatus spontaneously end in ossification, 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kylosis of joints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ossification of insertions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7AEF7-BD26-42D5-96DF-5B2F91DA5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Morbus Bechterew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755640" y="1701720"/>
            <a:ext cx="76327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LAB27 allele is positive in 90 - 95%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 RF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alence in the world 1 – 2%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begins between the ages of 15 and 29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common in men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 : W = 3 : 1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72BF9-0D3C-4FA6-BE7B-E85707A6A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407880" y="189000"/>
            <a:ext cx="826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agnosis - ASAS criteria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49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6A0DC-2A3F-42B8-A44C-84C93A27E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5027760" y="2058840"/>
            <a:ext cx="3598560" cy="1128960"/>
          </a:xfrm>
          <a:prstGeom prst="rect">
            <a:avLst/>
          </a:prstGeom>
          <a:solidFill>
            <a:srgbClr val="dce6f2">
              <a:alpha val="91000"/>
            </a:srgbClr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293920" y="1192320"/>
            <a:ext cx="4438800" cy="642600"/>
          </a:xfrm>
          <a:prstGeom prst="rect">
            <a:avLst/>
          </a:prstGeom>
          <a:solidFill>
            <a:srgbClr val="dce6f2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Lumbar pain ≥3 months;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age at the onset of symptoms &lt;</a:t>
            </a:r>
            <a:r>
              <a:rPr b="1" lang="sr-Latn-CS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45 year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5076720" y="2058840"/>
            <a:ext cx="35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Open Sans"/>
              </a:rPr>
              <a:t>2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. 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Verified presence of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HLAB27</a:t>
            </a:r>
            <a:br>
              <a:rPr sz="1800"/>
            </a:b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    + ≥ 2 characteristics of Sp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000080" y="2058840"/>
            <a:ext cx="3751200" cy="1372680"/>
          </a:xfrm>
          <a:prstGeom prst="rect">
            <a:avLst/>
          </a:prstGeom>
          <a:solidFill>
            <a:srgbClr val="dce6f2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Verified sacroileitis 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(MRI or X-ray verified signs of acute inflammation acording to modified New York criteria)</a:t>
            </a:r>
            <a:br>
              <a:rPr sz="1600"/>
            </a:b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+ ≥ 1 SpA characteristic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2428920" y="3357720"/>
            <a:ext cx="4824360" cy="3288600"/>
          </a:xfrm>
          <a:prstGeom prst="rect">
            <a:avLst/>
          </a:prstGeom>
          <a:solidFill>
            <a:srgbClr val="dce6f2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SpA characteristics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Inflammatory lumbar pai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enthesitis (heel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uve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arthr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dactyl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psorias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coll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good response to NSAID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SpA in the family anamnes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+ HLAB27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increased level of CRP (SpA characteristic only in the context of chronic lumbar pain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AutoShape 8"/>
          <p:cNvCxnSpPr/>
          <p:nvPr/>
        </p:nvCxnSpPr>
        <p:spPr>
          <a:xfrm flipH="1">
            <a:off x="2995200" y="1790280"/>
            <a:ext cx="216720" cy="26892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AutoShape 9"/>
          <p:cNvCxnSpPr/>
          <p:nvPr/>
        </p:nvCxnSpPr>
        <p:spPr>
          <a:xfrm>
            <a:off x="5796000" y="1775880"/>
            <a:ext cx="289440" cy="2754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395280" y="20520"/>
            <a:ext cx="826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nical characteristics of A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2"/>
          <p:cNvGrpSpPr/>
          <p:nvPr/>
        </p:nvGrpSpPr>
        <p:grpSpPr>
          <a:xfrm>
            <a:off x="179280" y="765000"/>
            <a:ext cx="8775720" cy="5811840"/>
            <a:chOff x="179280" y="765000"/>
            <a:chExt cx="8775720" cy="5811840"/>
          </a:xfrm>
        </p:grpSpPr>
        <p:sp>
          <p:nvSpPr>
            <p:cNvPr id="283" name="Rectangle 3"/>
            <p:cNvSpPr/>
            <p:nvPr/>
          </p:nvSpPr>
          <p:spPr>
            <a:xfrm>
              <a:off x="179280" y="765000"/>
              <a:ext cx="2739240" cy="2093400"/>
            </a:xfrm>
            <a:prstGeom prst="rect">
              <a:avLst/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SKELETAL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4"/>
            <p:cNvSpPr/>
            <p:nvPr/>
          </p:nvSpPr>
          <p:spPr>
            <a:xfrm>
              <a:off x="2928240" y="765000"/>
              <a:ext cx="6016680" cy="2093400"/>
            </a:xfrm>
            <a:prstGeom prst="rect">
              <a:avLst/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xial arthritis (sacroiliitis, spondyliti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rthritis „of the waist joints“ (hips and shoulder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eripheral arthritis more seldom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Other: enthesitis, osteoporosis, vertebral fractures, spondylodiscitis, pseudoarthrosis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>
              <a:off x="179280" y="2866320"/>
              <a:ext cx="2739240" cy="2090160"/>
            </a:xfrm>
            <a:prstGeom prst="rect">
              <a:avLst/>
            </a:prstGeom>
            <a:solidFill>
              <a:srgbClr val="d0e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EXTRASKELETAL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6"/>
            <p:cNvSpPr/>
            <p:nvPr/>
          </p:nvSpPr>
          <p:spPr>
            <a:xfrm>
              <a:off x="2928240" y="2866320"/>
              <a:ext cx="6016680" cy="2090160"/>
            </a:xfrm>
            <a:prstGeom prst="rect">
              <a:avLst/>
            </a:prstGeom>
            <a:solidFill>
              <a:srgbClr val="d0e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Acute anterior uveitis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Cardiovascular disorders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(aortic insufficiency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espiratory disorders (lung fibrosi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Lesions of the intestinal mucosa (Chron's disease/colliti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soriasis 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179280" y="4962600"/>
              <a:ext cx="2739240" cy="1602720"/>
            </a:xfrm>
            <a:prstGeom prst="rect">
              <a:avLst/>
            </a:prstGeom>
            <a:solidFill>
              <a:srgbClr val="e9f1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SYSTEMIC MANIFESTATIONS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2928240" y="4962600"/>
              <a:ext cx="6016680" cy="1602720"/>
            </a:xfrm>
            <a:prstGeom prst="rect">
              <a:avLst/>
            </a:prstGeom>
            <a:solidFill>
              <a:srgbClr val="e9f1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Fatigue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Weight loss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Anorexia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Night sweating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Anemia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2928240" y="765000"/>
              <a:ext cx="0" cy="580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179280" y="2866320"/>
              <a:ext cx="876600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179280" y="4962600"/>
              <a:ext cx="8766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79280" y="765000"/>
              <a:ext cx="0" cy="580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8955000" y="765000"/>
              <a:ext cx="0" cy="580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179280" y="765000"/>
              <a:ext cx="8766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179280" y="6576840"/>
              <a:ext cx="8766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Text Box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82063-0E2E-4CFA-AFF2-353433AC6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412920" y="476280"/>
            <a:ext cx="826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Complication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395280" y="1197000"/>
            <a:ext cx="8280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involving locomotive syste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Vertebral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Kyphosis, kyphoscolio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Atlanto-axial dislo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!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steoporo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Vertebral body fracture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Cauda equina syndrome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Extravertebral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nkylosis of peripheral joint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EXTRA-ARTICULAR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myloido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ephrolythia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6F186-B2B2-48D0-8279-81FBF0B6B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rcRect l="46407" t="5988" r="4278" b="9862"/>
          <a:stretch/>
        </p:blipFill>
        <p:spPr>
          <a:xfrm>
            <a:off x="5508720" y="1743120"/>
            <a:ext cx="3419280" cy="47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Palatino Linotype"/>
              </a:rPr>
              <a:t>Functional assesment through specifc tes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pecific instrument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tests) for A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B7944-34E1-4DC2-ADE8-F0B22BF9D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1187280" y="1308240"/>
            <a:ext cx="813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23360" rIns="2223360" tIns="914040" bIns="45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000"/>
            </a:b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74680" y="2378160"/>
            <a:ext cx="8427960" cy="3919320"/>
            <a:chOff x="274680" y="2378160"/>
            <a:chExt cx="8427960" cy="3919320"/>
          </a:xfrm>
        </p:grpSpPr>
        <p:sp>
          <p:nvSpPr>
            <p:cNvPr id="305" name="Rectangle 5"/>
            <p:cNvSpPr/>
            <p:nvPr/>
          </p:nvSpPr>
          <p:spPr>
            <a:xfrm>
              <a:off x="274680" y="2378160"/>
              <a:ext cx="5815080" cy="6314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INSTRUMENT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>
              <a:off x="6099480" y="2378160"/>
              <a:ext cx="2589840" cy="6314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MEASURES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7"/>
            <p:cNvSpPr/>
            <p:nvPr/>
          </p:nvSpPr>
          <p:spPr>
            <a:xfrm>
              <a:off x="274680" y="3017520"/>
              <a:ext cx="5815080" cy="7866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Bath ankylosing spondylitis disease activity index (BASDA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8"/>
            <p:cNvSpPr/>
            <p:nvPr/>
          </p:nvSpPr>
          <p:spPr>
            <a:xfrm>
              <a:off x="6099480" y="3017520"/>
              <a:ext cx="2589840" cy="7866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Degree of disease activity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9"/>
            <p:cNvSpPr/>
            <p:nvPr/>
          </p:nvSpPr>
          <p:spPr>
            <a:xfrm>
              <a:off x="274680" y="3814200"/>
              <a:ext cx="5815080" cy="534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Bath ankylosing spondylitis functional index (BASF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10"/>
            <p:cNvSpPr/>
            <p:nvPr/>
          </p:nvSpPr>
          <p:spPr>
            <a:xfrm>
              <a:off x="6099480" y="3814200"/>
              <a:ext cx="2589840" cy="534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Function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11"/>
            <p:cNvSpPr/>
            <p:nvPr/>
          </p:nvSpPr>
          <p:spPr>
            <a:xfrm>
              <a:off x="274680" y="4350240"/>
              <a:ext cx="5815080" cy="5220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Dougados functional index (DF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12"/>
            <p:cNvSpPr/>
            <p:nvPr/>
          </p:nvSpPr>
          <p:spPr>
            <a:xfrm>
              <a:off x="6099480" y="4350240"/>
              <a:ext cx="2589840" cy="5220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Function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13"/>
            <p:cNvSpPr/>
            <p:nvPr/>
          </p:nvSpPr>
          <p:spPr>
            <a:xfrm>
              <a:off x="274680" y="4880160"/>
              <a:ext cx="5815080" cy="588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Bath ankylosing spondylitis metrology index (BASM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6099480" y="4880160"/>
              <a:ext cx="2589840" cy="588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Function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74680" y="5477040"/>
              <a:ext cx="5815080" cy="80892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Modified stoke ankylosing spondylitis spinal score (m-SASSS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16"/>
            <p:cNvSpPr/>
            <p:nvPr/>
          </p:nvSpPr>
          <p:spPr>
            <a:xfrm>
              <a:off x="6099480" y="5477040"/>
              <a:ext cx="2589840" cy="80892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Structural damage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7"/>
            <p:cNvSpPr/>
            <p:nvPr/>
          </p:nvSpPr>
          <p:spPr>
            <a:xfrm>
              <a:off x="6099480" y="2378160"/>
              <a:ext cx="0" cy="3911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8"/>
            <p:cNvSpPr/>
            <p:nvPr/>
          </p:nvSpPr>
          <p:spPr>
            <a:xfrm>
              <a:off x="274680" y="3018960"/>
              <a:ext cx="84182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9"/>
            <p:cNvSpPr/>
            <p:nvPr/>
          </p:nvSpPr>
          <p:spPr>
            <a:xfrm>
              <a:off x="274680" y="381420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0"/>
            <p:cNvSpPr/>
            <p:nvPr/>
          </p:nvSpPr>
          <p:spPr>
            <a:xfrm>
              <a:off x="274680" y="435024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274680" y="488016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2"/>
            <p:cNvSpPr/>
            <p:nvPr/>
          </p:nvSpPr>
          <p:spPr>
            <a:xfrm>
              <a:off x="274680" y="547704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3"/>
            <p:cNvSpPr/>
            <p:nvPr/>
          </p:nvSpPr>
          <p:spPr>
            <a:xfrm>
              <a:off x="274680" y="2378160"/>
              <a:ext cx="0" cy="3911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"/>
            <p:cNvSpPr/>
            <p:nvPr/>
          </p:nvSpPr>
          <p:spPr>
            <a:xfrm>
              <a:off x="8702640" y="2378160"/>
              <a:ext cx="0" cy="3911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25"/>
            <p:cNvSpPr/>
            <p:nvPr/>
          </p:nvSpPr>
          <p:spPr>
            <a:xfrm>
              <a:off x="274680" y="237816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6"/>
            <p:cNvSpPr/>
            <p:nvPr/>
          </p:nvSpPr>
          <p:spPr>
            <a:xfrm>
              <a:off x="274680" y="629748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asurment of the spinal column mobilit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41F32-EEF0-41FE-AC63-382901DE6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68360" y="1557360"/>
            <a:ext cx="82296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Rheumatic diseases are characterized b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great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frequency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(every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7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t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patient who seeks medical help)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low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mortality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rate (as a cause of death they make a negligible share of 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01 ‰)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long-term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sickleave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(th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or 2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n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eading cause of employee absenteeism)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disability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eading cause of physical disability)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21B8D-AECB-4F21-BABB-EE7ACD804A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ngertip-to-Floor tes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428760" y="1643040"/>
            <a:ext cx="49719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Calibri"/>
              </a:rPr>
              <a:t>Sagittal mobility —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bending forward to the point of pain with the knees extended;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Fingertips to floor distanc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s measured in c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D847E-7339-4027-9A67-089243806D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457200" y="270000"/>
            <a:ext cx="850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Range of motion of the cervical spine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457200" y="156672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/ext              lateroflexio                      rotat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395280" y="4464000"/>
            <a:ext cx="2322360" cy="1817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2"/>
          <a:stretch/>
        </p:blipFill>
        <p:spPr>
          <a:xfrm>
            <a:off x="3492360" y="4608360"/>
            <a:ext cx="2232000" cy="1528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3"/>
          <a:stretch/>
        </p:blipFill>
        <p:spPr>
          <a:xfrm>
            <a:off x="6500880" y="4714920"/>
            <a:ext cx="1942920" cy="15285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6"/>
          <p:cNvSpPr/>
          <p:nvPr/>
        </p:nvSpPr>
        <p:spPr>
          <a:xfrm>
            <a:off x="6858360" y="392904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tat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tto test</a:t>
            </a:r>
            <a:br>
              <a:rPr sz="3600"/>
            </a:b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08000" y="2154240"/>
            <a:ext cx="4751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rk C7 segment with a marker, then mark another point 30 cm down the spine 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t maximum anteflexion, the distance was great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an 3 c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782E5-2D8D-493B-8A18-F11D2D375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 algn="ctr">
              <a:lnSpc>
                <a:spcPct val="2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dified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Schober tes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971640" y="2735280"/>
            <a:ext cx="70009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10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ve and 5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low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L5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he distance should be increased for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t least 5 cm 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67CCD-FA53-4606-8D07-873C1A943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 algn="ctr">
              <a:lnSpc>
                <a:spcPct val="2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Lumbar lateroflexio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45720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Lateral side bending te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level of the middle finger on each side is marked with a horizontal line on the side of the thigh. The subject is then asked to slowly bend sideways as far as possible and that level is also marked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istance between these two lines is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bout 20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ealthy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subjects.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EC55D-7481-4D6D-A05B-2D041C84B10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index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395280" y="1557360"/>
            <a:ext cx="799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t the level of the intercostal space 4;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x inspirium – max expirium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pends on age and gender;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l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&gt; 5 c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6766D-1671-4C1C-8C28-1326BCDE1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539640" y="1557360"/>
            <a:ext cx="8147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sr-CS" sz="2600" spc="-1" strike="noStrike">
                <a:solidFill>
                  <a:srgbClr val="ff0000"/>
                </a:solidFill>
                <a:latin typeface="Calibri"/>
              </a:rPr>
              <a:t>Мedicamentou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NSAIDs; disease-modifying medicines, biological Тh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2. Res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10-hour night rest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aily from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1-2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3. Education – explain the nature of the disease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sr-CS" sz="2600" spc="-1" strike="noStrike">
                <a:solidFill>
                  <a:srgbClr val="ff0000"/>
                </a:solidFill>
                <a:latin typeface="Calibri"/>
              </a:rPr>
              <a:t>Physical therapy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ain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aintain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obility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f the spine and coxofemoral joi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trengthen the function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respiratory muscles.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36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7B2D1-FAC9-4761-A803-0425A22658B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457200" y="274680"/>
            <a:ext cx="82296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365040" y="1000080"/>
            <a:ext cx="83646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Ultrasou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igh-dose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1 - 1,5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W/cm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on both SI joints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; on PVM of th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 spine segment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Kinesitherap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xercises for improvement of the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range of motio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of the spine, exercises for improvement of the range of motion of the hips and shoulders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breathing exercises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- thoracic (costal breathing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„to the point of crying“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Thermotherap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SWD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frared radiation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araffin wax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(pain redu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 muscle relaxation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Electroanalgesia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ble galvanization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F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with vasodilators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otassium-iodide and hydrocortison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yadynamic currents; Intraferential currents; Electrostimulation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ulse Magnetic Field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Laserotherapy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Massage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(reduces pa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decreases the tone of PVM, improves circulation and local metabolism of the tissues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Hydrokinesitherapy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464FF-5C64-4F2E-BD77-3A0ADDF0E9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68436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generative rheumatis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457200" y="66816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Degenerative rheumatism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755640" y="1484280"/>
            <a:ext cx="7561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Rheumatism of the peripheral joint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rthros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Degenerative rheumatic disease of the spine –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pondylo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ervical syndrom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umbar syndrom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033BE-5D3C-489D-82FA-EEFF876E6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Classification of rheumatic diseas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826920" y="2075040"/>
            <a:ext cx="785988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nflammatory 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egenerative 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Extra-articular 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Rare rheumatic diseases and para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21907-3049-4F1F-90C2-E10476DF19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108000" y="549360"/>
            <a:ext cx="90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Degenerative diseases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rthroses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) of joint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1187280" y="1387440"/>
            <a:ext cx="7560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rthroses are defined as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amage of the joint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cartillag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With proliferation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f the bone ending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Without synovial inflammation,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r if present, it is mild and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secondary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217D1-FE18-4F3B-A70D-3BEA12133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arthros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IMARY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iopatic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ize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osiv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ONDARY</a:t>
            </a:r>
            <a:r>
              <a:rPr b="1" lang="sr-Latn-CS" sz="28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juri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ditary developmental disord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bolic disord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crine disorder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flammation of joints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ropathic disord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ditary disorders in collagen synthesi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25092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Degenerative diseases (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rthroses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) of joint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457200" y="1197000"/>
            <a:ext cx="598644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Calibri"/>
              </a:rPr>
              <a:t>Clinical picture</a:t>
            </a:r>
            <a:endParaRPr b="0" i="1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Pain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– initially only when overused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Stiffness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– in the morning and after long-term immobilization 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Functional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disorders and joint </a:t>
            </a: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deformations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Crepitation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Laboratory results - normal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E2F81-3E26-4419-97AC-9E9B9CE81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diographic signs of arthrosi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457200" y="2133720"/>
            <a:ext cx="569916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pace narrow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chondral sclerosi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teophyt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ysts in the subchondral bon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592360" cy="2303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6315120" y="4076640"/>
            <a:ext cx="2504880" cy="18288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D2AC9-EFBD-46C7-8854-19B997F575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boratory analys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here are no specific laboratory tests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S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s normal or mildly increased in the subsequent inflammation complication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FE15E-1CEF-45DF-B4D9-6910276C8F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539640" y="40464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evention of 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611280" y="1916280"/>
            <a:ext cx="83055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and an early treatment of congenital deform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ip dislocation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injuri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 (adequate body weight, regular moderate physical activity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609480" y="762120"/>
            <a:ext cx="7131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dicamentous treatmen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1979640" y="1989000"/>
            <a:ext cx="6194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gesic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SAID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ly administered glucocorticoi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ndroprotecto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479520" y="260280"/>
            <a:ext cx="757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n-medication treatment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900000" y="1773360"/>
            <a:ext cx="705816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gical treatmen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formity correc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ndoprosthesis implant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Cox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763640" y="1557360"/>
            <a:ext cx="6265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most frequent kind of arthrosis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Most common in persons aged &gt; 40 year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=F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250920" y="6245280"/>
            <a:ext cx="3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43648-C339-4820-B04A-18FF1591A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Cox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Primary or idiopatic –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t is not the result of any known pathological hip condi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about 42%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ond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xarthroses develop after various pathological hip condition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40% of all coxarthroses are the consequence of the hip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velopmental disord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th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fter protrusion of the acetabulum, after injuries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u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nflammatio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72351-4465-4B2E-8613-AEFAB5CDFD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Combined therap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250920" y="1600200"/>
            <a:ext cx="3395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edicamentous therapy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nalgesic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nti-inflammatory  medicin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sease-modifying  medicin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iological therapy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708360" y="1600200"/>
            <a:ext cx="518472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hysical therapy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etter circulation and tissue nutri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etter evacuation of the extravasate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vention of muscle atrophy and  contractur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ntenance of the tissue elasticit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ntenance of the activity of the kinesthetic and motor engram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General condition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C4B6C-5142-445E-B809-1F07D24755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250920" y="1341360"/>
            <a:ext cx="84358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Pain when walking —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the basic sign of coxarthros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t occurs after 200m, 500m, 1km or more, depending on the degree of coxarthros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At the initial stag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t diminishes with rest and when lying down, but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in the late stage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t is felt during the whole day, later even during the night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t is most often localized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in the anterior thigh extending to the kne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or in the anterior inner thigh; more rarely in the posterior thigh or under the kn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FF764-D294-40F1-AAA9-1AC3AFEDFD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468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Progressive limitation of the range of hip motion 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flexion movement is affected at the latest stage, while much more common are limited hip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rotation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or limited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abduc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often accompanied 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epi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r audible cracking or clicking sound in a damaged hip, as well as occasio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ock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hip join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later stage, the patient experienc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ain when putting pressu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 hip,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ypotroph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thigh muscles, or decreased trophy and strength of the thigh musc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44954-47B7-46EB-B41A-C3E2E99F9DA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n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763640" y="1989000"/>
            <a:ext cx="669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comm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60% of persons older th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0 years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90% of persons older th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68436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684360" y="1916280"/>
            <a:ext cx="777240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he first clinical sig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starts o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terior or inner si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knee, much more rarely on the outer or posterior side, while later, it affects the whole kn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t the beginning it occurs when walking, especially on uneven groun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780A3-1C3B-478D-8248-005FB84A71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rating sensation,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crepita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n the kn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Locking of the knee joint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loss of mo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occurs rarely and usually as a consequence of other damages of the joint cartillage or the menisci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Swelling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of the knee and accumulation of fluid in the knee occur at the later stag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Limitation of movements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especially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flex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occurs many years later after the onset of the diseas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E0844-A219-4245-8E2E-94A04146A3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1547640" y="1635120"/>
            <a:ext cx="749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Preventive measur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servativ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edicament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: analgesics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SA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locally administered glucocorticoid, chondroprotecto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hysica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rgic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1DA6D-B978-4A3F-88A7-2F324D0A42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p endoprosthe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714680" y="2286000"/>
            <a:ext cx="5500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nee endoprosthe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979640" y="1936800"/>
            <a:ext cx="4968720" cy="378144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C74FE-1F3F-4BE0-9768-242DBDCD8A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324000" y="1197000"/>
            <a:ext cx="84643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Joint unloadin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rease of body weight, a cane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crutch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inesi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xercises for maintenance and improvement of the strength of the stabilizer muscl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Cry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 swell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Therm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fter resolving inflamm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Electr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G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F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potassium-iodide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ortic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C, DDC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gnet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aser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Hydr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ssag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CF408-2372-4EE0-9002-412E8E7A7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395280" y="549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Degenerative rheumatic disease of the spine - spondylosi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1187280" y="1941480"/>
            <a:ext cx="662472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Cervical syndrom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Local cervic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ervicobrachi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ervicoceph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ervicomedullar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19241-3705-44E3-AA86-7FF4E8FD0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Aims of medical rehabilitatio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900000" y="1557360"/>
            <a:ext cx="7786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 musc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trophy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join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trac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steoporos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bon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estru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ue to inactivity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еducatio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75FC1-C499-4AE8-ADDE-A4ECEEFE4B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468360" y="40464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Medical rehabilitation of the cervical syndrom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uring 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</a:rPr>
              <a:t>аcute phase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ocally, on the skin above the muscles located near the cervical spine,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ryomassag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s applied (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ryowra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In more severe case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stabilization of the cervical spine 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in the soft neck brace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Schantz collar) during the day and night, then only during the night while the symptoms are present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C64B8-1EDD-452E-8A78-E3E4CDF08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Medical rehabilitation of the cervical syndrom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chronic phas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when the pain intensity diminishes, аnd the spine becomes more mobile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tions (analgesic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r NSAIDs as need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or reduction of pain and spasm of the PV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al procedures in the form of warm compresses, hot baths, shower, infrared rad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apeutic ultrasound or sonophoresis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ssag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traction (stretching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therapy –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most importa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A5C28-1ED0-4DC0-8836-75A2A388AF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0" y="630360"/>
            <a:ext cx="9144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r syndrom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57200" y="1628640"/>
            <a:ext cx="82296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Lumbalgia</a:t>
            </a:r>
            <a:r>
              <a:rPr b="1" lang="sr-CS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(unspecific lumbar pain) (over 95%) – pain in the lower back from the lower ribs to the gluteal lin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Sciatic syndrom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(less than 5%) - pain spreding usually down one leg, which indicates irritation/compression of the nerve root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Severe spinal pathology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(less than 2%) – progressive neurological defici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EDC88-FBAA-4972-80F0-A02211D93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lgia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according to its duration: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acut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umbalg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&lt; 6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subacut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umbalg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6 -12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chron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umbalg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&gt;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Acute lumbalgia occurs due 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trusion of the nucleus pulposus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ubluxation of the intervertebral joint (facet joint Sy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C428A-216C-42FE-987D-C89126130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68360" y="617400"/>
            <a:ext cx="822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r discus hernia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3EE7A-09D9-410B-850E-9F78F3BBE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3"/>
          <p:cNvSpPr/>
          <p:nvPr/>
        </p:nvSpPr>
        <p:spPr>
          <a:xfrm flipV="1" rot="5400000">
            <a:off x="2052360" y="2203560"/>
            <a:ext cx="2087640" cy="1656000"/>
          </a:xfrm>
          <a:prstGeom prst="rtTriangle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826920" y="2041560"/>
            <a:ext cx="741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612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ten between the age of 30 and 50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6120" indent="-276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612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601200"/>
                <a:tab algn="l" pos="10058400"/>
                <a:tab algn="l" pos="105156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n more than 95% of cases at the level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L5 (compression of the root L5) or at the level L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S1 (compression of the root S1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6120" indent="-276120">
              <a:lnSpc>
                <a:spcPct val="100000"/>
              </a:lnSpc>
              <a:tabLst>
                <a:tab algn="l" pos="0"/>
                <a:tab algn="l" pos="27612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68360" y="568440"/>
            <a:ext cx="8229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2050920" y="1428840"/>
            <a:ext cx="613116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CONSERVATIV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edicamentou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Physical therap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SURGIC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A8B9B-FD7F-444D-AA5F-A940958CC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457200" y="1052640"/>
            <a:ext cx="84358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600" spc="-1" strike="noStrike">
                <a:solidFill>
                  <a:srgbClr val="000000"/>
                </a:solidFill>
                <a:latin typeface="Calibri"/>
              </a:rPr>
              <a:t>ACUTE STAGE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ying in b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(CAUTION!!!)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 activity;</a:t>
            </a: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traction</a:t>
            </a:r>
            <a:r>
              <a:rPr b="0" lang="sr-Latn-BA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the lumbar sp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edicamentous therapy (antiphlogistics, analgesics, sedativ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i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600" spc="-1" strike="noStrike">
                <a:solidFill>
                  <a:srgbClr val="000000"/>
                </a:solidFill>
                <a:latin typeface="Calibri"/>
              </a:rPr>
              <a:t>SUBACUTE STAGE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formation and education regarding the diseas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hydr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a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ser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nual massag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DD6E7-D786-4D15-9208-FD24B4E79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468360" y="270000"/>
            <a:ext cx="82296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8220" r="0" b="13858"/>
          <a:stretch/>
        </p:blipFill>
        <p:spPr>
          <a:xfrm>
            <a:off x="533520" y="3005280"/>
            <a:ext cx="2293920" cy="16761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F3CF5-D719-4461-8E90-B351C82F3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2"/>
          <a:stretch/>
        </p:blipFill>
        <p:spPr>
          <a:xfrm>
            <a:off x="3124080" y="2819520"/>
            <a:ext cx="3048120" cy="20462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"/>
          <p:cNvPicPr/>
          <p:nvPr/>
        </p:nvPicPr>
        <p:blipFill>
          <a:blip r:embed="rId3"/>
          <a:stretch/>
        </p:blipFill>
        <p:spPr>
          <a:xfrm>
            <a:off x="6477120" y="2976480"/>
            <a:ext cx="2305080" cy="17337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6"/>
          <p:cNvSpPr/>
          <p:nvPr/>
        </p:nvSpPr>
        <p:spPr>
          <a:xfrm>
            <a:off x="4648320" y="3357720"/>
            <a:ext cx="137880" cy="312480"/>
          </a:xfrm>
          <a:prstGeom prst="rect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473040" y="50328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Hydrokinesitherapy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468360" y="1546200"/>
            <a:ext cx="3382920" cy="2387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3382920" cy="25765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4"/>
          <p:cNvSpPr/>
          <p:nvPr/>
        </p:nvSpPr>
        <p:spPr>
          <a:xfrm>
            <a:off x="4067280" y="1557360"/>
            <a:ext cx="485928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6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Advantages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ccording to Archimedes' law, water reduces the body's weigh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Water temperature decreases the muscle spasm and improves circul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 muscle weakness, improved efficacy in performance of movements has a positive psychological effec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A2425-8A7C-46E0-8AC5-BDD837A1F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468360" y="617400"/>
            <a:ext cx="822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Medical rehabilitation 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457200" y="1484280"/>
            <a:ext cx="83628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CHRONIC STAG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Therapy in this stage is directed at </a:t>
            </a:r>
            <a:r>
              <a:rPr b="1" lang="sr-Latn-BA" sz="2800" spc="-1" strike="noStrike">
                <a:solidFill>
                  <a:srgbClr val="ff0000"/>
                </a:solidFill>
                <a:latin typeface="Calibri"/>
              </a:rPr>
              <a:t>maintenance</a:t>
            </a: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 of the  achieved state, or use of selected procedures on the basis of the functional stat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800" spc="-1" strike="noStrike">
                <a:solidFill>
                  <a:srgbClr val="ff0000"/>
                </a:solidFill>
                <a:latin typeface="Calibri"/>
              </a:rPr>
              <a:t>Ergonomic counselling and train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Through ergonomic counselling, the patient is trained for performing and using the protective movements and position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1C35D-8E9F-4963-825A-4CB79E6E6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68436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flammatory rheumatic diseas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419040" y="189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Ergonomic counselling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D4D37-C293-472B-89B5-53E6E01A0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1096920" y="1279440"/>
            <a:ext cx="65833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471600" y="270000"/>
            <a:ext cx="82296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Prevention of the lumbar syndrome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457200" y="1484280"/>
            <a:ext cx="843588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ssuming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protective positions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– ergotherapeutic adaptatio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Muscle strengthening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– it is important to achieve balance between the strength of trunk flexors  and extensors, which means: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Between the muscles of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the anterior abdominal wall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 back muscles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s well 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Balance between the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hip flexor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extensor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916AB-33F7-43D3-8E2C-9B0F2A1DB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Extra-articular rheumatis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1835280" y="1467000"/>
            <a:ext cx="59767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hesitis or enthesopath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rs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osynov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niculitis or cellul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ofibros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1DA0D-B619-4FF6-9386-CF005D711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eriarthritis humeroscapular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457200" y="2276640"/>
            <a:ext cx="82296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Basically -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swelling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calcificatio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of the soft structures around the shoulder joint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he process is  accompanied by the following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symptom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pain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limited range of motion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muscle weaknes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4FDF0-9D01-448B-BBB1-CBB2FB1FD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ENNIS ELBOW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(epicondylitis humeri lateralis)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JAVELIN THROWER'S and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GOLFER'S ELBOW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(epicondylitis humeri medialis)</a:t>
            </a:r>
            <a:endParaRPr b="0" i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611280" y="1600200"/>
            <a:ext cx="799308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ENNIS ELBO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ain and tenderness o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te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de of the elb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ttachment of the forear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xtenso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JAVELIN THROWER'S and GOLFER'S ELB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tenderness in the area of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de of the elbow joi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ttachment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ear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lexo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thoanatomic chang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t the site of muscle attachments to bone:  periosteal thickening, metaplasia of the muscular attachments and fibrosis, ev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issue calcificati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457200" y="3678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403280" y="1589040"/>
            <a:ext cx="6923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otherapy (locally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therapy – electroanalgesic procedur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V rad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frared rad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o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sero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HOCK WA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high-energy sound wave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E2B23-BB0C-4177-AE41-649A6E031EA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476280"/>
            <a:ext cx="8229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Inflammatory rheumatic diseases</a:t>
            </a:r>
            <a:br>
              <a:rPr sz="3600"/>
            </a:b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46836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common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heumatoid 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ondyloarthropat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Ankylosing spondyl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orbusBechterew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i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syndrom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Psoriatic 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Enteropathic 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1D468-19AB-4DD8-A56E-FE7C781D9B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heumatoid arthriti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ic disease of the connective tissu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f unknown etiology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With chronic and progressive course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ma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linical characterist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ymmetric destructive polyarthritis,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volvement of other organs in a small degree,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ts consequences include dissability, reduction of working capacity and premature death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EBB11-2DF3-43A8-B963-226CB472F4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6:09:49Z</dcterms:created>
  <dc:creator>Vojislav Ilic</dc:creator>
  <dc:description/>
  <dc:language>en-US</dc:language>
  <cp:lastModifiedBy>Nada Miklja</cp:lastModifiedBy>
  <dcterms:modified xsi:type="dcterms:W3CDTF">2023-09-27T09:24:02Z</dcterms:modified>
  <cp:revision>612</cp:revision>
  <dc:subject/>
  <dc:title>Slide 1</dc:title>
</cp:coreProperties>
</file>